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2AA21-7C3A-4B46-8382-9DD96EDB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F91A1-61A8-4D70-8735-F0CE6D483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A19C8-5F4D-4716-82D6-4C7F6682B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BFD6-2DE3-48B0-9E54-199294596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AA989-1059-4653-8CD4-BB1A51883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73AE-3324-4CF0-A311-8F4B40449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0B5AB-7C99-499F-9612-D887AFCC6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29FB0-6481-41E4-AB06-5893768B6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9686F-741B-4304-9FAD-872CADD36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F7313-9FAE-47F9-A0F5-D8E0F7343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B9686-56C6-4403-BA87-81E45C11F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05EEC-CA98-4C4A-82F3-F0A5BB81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CC87A-44B5-4484-99D3-C86489317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77B8D-0A9E-4892-8804-7DABC9618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D4A65-805F-44C7-BEE6-A4C4BDFBA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1BA5C-188C-4AB5-B1A2-21C8DA77F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ABA82-9795-4E7B-9952-E6743360F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324646-1A18-4456-9BE4-351ACC914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C86AF-50C4-46B0-B518-760EB3D97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230FA-D947-49F3-91B9-0A362FA3F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89E0E-84A3-44C2-9766-F30C639E4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D4805-94F2-4F91-8A89-3864399BF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F8F2A-6F10-4B77-AB20-2DF4A056A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9F0B0-AAB3-4FFD-AD4D-FC7C628F4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C5DE2-9D23-4074-A0D7-0A88DE0F3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D62BA-CDFA-40C0-8FE3-BCB22F1D5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32B01-9EDD-41A0-84A3-6C45929B4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B2E0C-26BA-4064-B02E-BB9F99DAD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8F91A-B43F-4F01-BDEF-A46C5B47BA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FA9F8-CA7C-401B-A58A-D1C78E66B6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5222D-9F42-48B0-ADF8-2E05A7E06D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E730B-5CFB-4FFB-9504-EB81359B3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468D2-2C4D-42FE-A413-4C7B6B5C3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CCCE-9F83-410D-A74E-AA50DD89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3A1B9-4925-4CCD-BA06-0736163E6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2BD99-4FE7-4BA7-8B8F-D961A1E4E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D3800F-199C-4876-A949-40E3BD336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94B43-7716-4B89-9E09-9822A08F4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F479A-11A8-4D01-84B3-97DF7B523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7CFD4-EF0B-4E50-AFB6-C33039F7E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75A7B-080B-4F1A-959A-FE25EA75A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FAAC5-B00C-4CBC-85E3-A7829B21A9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CF0F5-8453-4274-BEDB-1EF0E7B97B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01953-B338-40C9-A1BE-E80836684F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8227-8C02-4608-A05B-C65E8ACB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34BAD-BD59-4DE8-88DC-95B9B78EB2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BAEF0-12AD-4752-9B58-A3C631B6D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73EA3-7334-41BB-92CE-12C94FF53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1311A-E0A0-4340-9D8F-A07163D7A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67001-7D53-4368-BD24-6BFDF370B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622E0-9AF9-4200-B0B0-59B824813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9BF28-22AC-4A18-B4AF-498BCAA05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0C3AE-C07C-412E-8D69-5A43B8B0C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60B2B-E939-4973-AC7D-CE47158C4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92DA5E-83D1-4B25-82FA-FF8EE51F0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DD2E-06F3-4B2D-8C4D-60CCE511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0E8C4-3CD3-4ECE-8F73-96C041085F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71CA-A8C7-47CB-A721-79805BF4D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8FC0-AD98-4DBC-947B-B27C125D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4FCD-4CB4-4D56-AC52-3D0FB117A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F4FD-091C-4741-89E7-2A961F4A37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7613-BA33-432D-B355-CC52BD5796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6B80-45E5-49EF-AA7A-B7A0322313E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1AA3-6889-43C7-A1C7-81C5DAD249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2AD3-1354-4FC4-90A8-90EC1CFC0B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apter 7</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School Law and the Public Schools, 2008</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Nathan Essex</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iability and Student Record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ublic Law 93-380</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lIns="90000" rIns="90000" tIns="46800" bIns="46800"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amily Educational Rights and Privacy Act (FERPA) protects confidentiality of student records.</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Parents:  Parents or legal guardians have the right to inspect their child’s record</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 of Noncustodial Parents:  The courts have maintained that neither parent could be denied access to the child’s records under the Family Educational Rights and Privacy Act.</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Eligible Students:  The student may exercise the same rights afforded parents or guardians, if he or she has reached the age of 18 or in enrolled in a postsecondary institution.</a:t>
            </a:r>
            <a:endParaRPr b="0" lang="en-US" sz="24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ights of School Personnel:  Teachers, counselors, and administrators who have a legitimate educational interest in viewing record may do so.  A written form, must be maintained permanently with the fil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fidentiality</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 counselors are not required to share information obtained from students with their parents.  Records that remain in the sole possession of counselors are not subject to FERPA.  Educational records under FERPA do no include personal files.  When circumstances arise in which public disclosure is in the public interest, confidentiality is lost.</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ederal and state officials may inspect files without parental consent in order to enforce federal or state laws or to audit or evaluate federal education program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Landmark U.S. Supreme Court Rulings</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lIns="90000" rIns="90000" tIns="46800" bIns="46800"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asso ISD v. Falvo, 2002, the U.S. Supreme Court ruled that peer grading does not violate FERPA.</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nzaga University v. John Doe, 2002, the U.S. Supreme Court ruled that student and parent may not sue for damages under 42 U.S.C. 1983 to enforce provisions of the Family Educational  Rights and Privacy Ac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school personnel communicate personal and sensitive information to another unauthorized person that results in injury to the student’s reputation or standing in the school or that diminishes the respect and esteem to which the student is held, they may faces charges of libel or slander depending on the manner and intent in which such information was communicated.</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Slander </a:t>
            </a:r>
            <a:r>
              <a:rPr b="0" lang="en-US" sz="2600" spc="-1" strike="noStrike">
                <a:solidFill>
                  <a:srgbClr val="000000"/>
                </a:solidFill>
                <a:latin typeface="Perpetua"/>
              </a:rPr>
              <a:t>is oral defamation, when school personnel inadvertently communicate sensitive and damaging information contained in student file to unauthorized individual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ibel</a:t>
            </a:r>
            <a:r>
              <a:rPr b="0" lang="en-US" sz="2600" spc="-1" strike="noStrike">
                <a:solidFill>
                  <a:srgbClr val="000000"/>
                </a:solidFill>
                <a:latin typeface="Perpetua"/>
              </a:rPr>
              <a:t> is written defamation.  Teachers, counselors and principals should refrain from including damaging information in the student’s record for which there is no basi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Qualified privilege </a:t>
            </a:r>
            <a:r>
              <a:rPr b="0" lang="en-US" sz="2600" spc="-1" strike="noStrike">
                <a:solidFill>
                  <a:srgbClr val="000000"/>
                </a:solidFill>
                <a:latin typeface="Perpetua"/>
              </a:rPr>
              <a:t>protects school personnel that provide oral or written information regarding a student, some of which might be contained in the student’s file when the requests are made and the school personnel responds in a truthful and reasonable manner.  This privilege is based on the premise that the educator is operating in good fai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efamation Involving School Personnel</a:t>
            </a: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ts of Malice </a:t>
            </a:r>
            <a:r>
              <a:rPr b="0" lang="en-US" sz="2600" spc="-1" strike="noStrike">
                <a:solidFill>
                  <a:srgbClr val="000000"/>
                </a:solidFill>
                <a:latin typeface="Perpetua"/>
              </a:rPr>
              <a:t>exists when there is an clear intent to harm or injure anoth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enses Against Defamation include privilege, good faith and tru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21:32:23Z</dcterms:created>
  <dc:creator>Gary Graham</dc:creator>
  <dc:description/>
  <dc:language>en-US</dc:language>
  <cp:lastModifiedBy>Gary Graham</cp:lastModifiedBy>
  <dcterms:modified xsi:type="dcterms:W3CDTF">2009-07-19T22:00:24Z</dcterms:modified>
  <cp:revision>6</cp:revision>
  <dc:subject/>
  <dc:title>Liability and Student Records</dc:title>
</cp:coreProperties>
</file>